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848-7C6E-4E3E-8875-B6056E5E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943-2956-4AA7-A06C-ECD4B6F8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2CA-20C4-4AC6-82C0-D0CD8E9D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226-92FE-47C6-8666-5704A405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391-90D4-4DC2-8BD4-64E7282D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A20-1EF8-4EBA-ACD0-A4137DC9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44D-A4E3-487D-BCCC-E36D0C45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BC4-304D-497D-8F92-0EF17E29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016-3CA7-47A7-BEF6-2CC36882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6CB-4E26-4B42-9982-7977E847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BC0-E5C3-4E94-AAD5-B51B3AF7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2A7-5385-4E5C-869B-FCC25DF5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52A3-441B-4CBA-A946-6F6F2F3BE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igital-picture-printing-frames.com/store/images/categories/Georges%2520Seurat-Portrait_med.jpg&amp;imgrefurl=http://www.digital-picture-printing-frames.com/store/PPF/Category_ID/1176/products.asp&amp;h=210&amp;w=150&amp;sz=26&amp;tbnid=R5V3sZL_ObqaYM:&amp;tbnh=106&amp;tbnw=76&amp;prev=/images%3Fq%3Dseurat%2Bportrait&amp;hl=en&amp;usg=__txOYEGy3dc3XMxwmU-okkKXJ5dM=&amp;ei=okB8S9KZGIGuNse_lL0F&amp;sa=X&amp;oi=image_result&amp;resnum=1&amp;ct=image&amp;ved=0CAkQ9QEwAA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ainting" TargetMode="External"/><Relationship Id="rId2" Type="http://schemas.openxmlformats.org/officeDocument/2006/relationships/hyperlink" Target="http://en.wikipedia.org/wiki/Color" TargetMode="External"/><Relationship Id="rId3" Type="http://schemas.openxmlformats.org/officeDocument/2006/relationships/hyperlink" Target="http://en.wikipedia.org/wiki/Georges_Seurat" TargetMode="External"/><Relationship Id="rId4" Type="http://schemas.openxmlformats.org/officeDocument/2006/relationships/hyperlink" Target="http://en.wikipedia.org/wiki/Impressionism" TargetMode="External"/><Relationship Id="rId5" Type="http://schemas.openxmlformats.org/officeDocument/2006/relationships/hyperlink" Target="http://en.wikipedia.org/wiki/Art_critics" TargetMode="External"/><Relationship Id="rId6" Type="http://schemas.openxmlformats.org/officeDocument/2006/relationships/hyperlink" Target="http://upload.wikimedia.org/wikipedia/commons/5/5d/Seurat-La_Parade_detail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en.wikipedia.org/wiki/Georges-Pierre_Seurat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sterarts.com.au/images/pi_467.jpeg&amp;imgrefurl=http://www.masterarts.com.au/catalog/The_Eiffel_Tower_cat_74.html&amp;usg=__K_gGZBM8o_mRyMYimJFt0tn-YR0=&amp;h=475&amp;w=300&amp;sz=226&amp;hl=en&amp;start=18&amp;sig2=YiBpDmtsW0BKQWQyPYRj-g&amp;um=1&amp;itbs=1&amp;tbnid=zZ89JIH3FM1kgM:&amp;tbnh=129&amp;tbnw=81&amp;prev=/images%3Fq%3Dseurat%2Bpaintings%26ndsp%3D20%26hl%3Den%26sa%3DN%26um%3D1&amp;ei=uTh8S-u_OJPV8AaF1P3MBQ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rtinthepicture.com/artists/Georges_Seurat/seated.jpe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907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Demi"/>
              </a:rPr>
              <a:t>Georges-Pierre Seu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2895480"/>
            <a:ext cx="1833480" cy="25718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533520" y="35053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painted the way I did, because I wanted something new.  I wanted a kind of painting that was my 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Circus"/>
          <p:cNvPicPr/>
          <p:nvPr/>
        </p:nvPicPr>
        <p:blipFill>
          <a:blip r:embed="rId1"/>
          <a:stretch/>
        </p:blipFill>
        <p:spPr>
          <a:xfrm>
            <a:off x="1905120" y="23760"/>
            <a:ext cx="53337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The Gardener by Georges Seurat"/>
          <p:cNvPicPr/>
          <p:nvPr/>
        </p:nvPicPr>
        <p:blipFill>
          <a:blip r:embed="rId1"/>
          <a:stretch/>
        </p:blipFill>
        <p:spPr>
          <a:xfrm>
            <a:off x="1676520" y="1486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The Maria at Honfleur"/>
          <p:cNvPicPr/>
          <p:nvPr/>
        </p:nvPicPr>
        <p:blipFill>
          <a:blip r:embed="rId1"/>
          <a:stretch/>
        </p:blipFill>
        <p:spPr>
          <a:xfrm>
            <a:off x="1523880" y="766800"/>
            <a:ext cx="632484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Horse in a Field"/>
          <p:cNvPicPr/>
          <p:nvPr/>
        </p:nvPicPr>
        <p:blipFill>
          <a:blip r:embed="rId1"/>
          <a:stretch/>
        </p:blipFill>
        <p:spPr>
          <a:xfrm>
            <a:off x="1066680" y="808200"/>
            <a:ext cx="67820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2057400"/>
            <a:ext cx="8991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orn December 2, 1859 in Paris,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ed March 29, 1891 of diphtheria at the age of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inter – Impressionism &amp; Modern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veloped the painting technique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intil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entific approach to use of color, dots, &amp;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st famous work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 Sunday 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Island of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a Grande Ja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80880"/>
            <a:ext cx="6324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orges Seu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nounced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(Zhorzh Sirra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907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il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technique of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int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which small, distinct dots of pur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l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re applied in patterns to form an image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eorges Seura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eveloped the technique in 1886, branching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mpressionis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The term Pointillism was first coined 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rt critic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the late 1880s to ridicule the works of these artists and is now used without its earlier mocking conn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Seurat-La Parade detail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86400" y="3048120"/>
            <a:ext cx="2038320" cy="3309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3372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cept of pointillism is to create solid space of color by using dots of two or more colors in an area. French artis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Georges-Pierre Seura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made this technique famous. His painting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nday Afternoon on the Island of La Grande Jat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84-1888) is one of the most famous paintings in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407880"/>
            <a:ext cx="891540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89160" y="990720"/>
            <a:ext cx="3013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463680"/>
            <a:ext cx="784872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Seated Wo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233360"/>
            <a:ext cx="5333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17:06Z</dcterms:created>
  <dc:creator>Patrick J. Mooney</dc:creator>
  <dc:description/>
  <dc:language>en-US</dc:language>
  <cp:lastModifiedBy>Patrick J. Mooney</cp:lastModifiedBy>
  <dcterms:modified xsi:type="dcterms:W3CDTF">2010-02-22T19:32:27Z</dcterms:modified>
  <cp:revision>8</cp:revision>
  <dc:subject/>
  <dc:title>Slide 1</dc:title>
</cp:coreProperties>
</file>